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268-96B5-46B5-AF36-F94AE143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4A3-9CA7-486C-94A8-7404FA73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34C-554F-472B-BB31-5B685828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88A-15B1-434C-BEC2-61E19C29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E6A2-3D25-4836-BE41-3AAB1833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7969-14F1-4E08-9A7C-6B3B4757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7BE7-9352-4EAF-8E73-5F7106A6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BDA7-0EEC-487C-AB0B-FB84FAFA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2536-1E81-47F2-B3B8-F28BED0E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D5F2-7265-4D07-BB25-8C0FB2F1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13B1-4CDF-4406-A63D-AA53C74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4BE-405B-42ED-A712-5237693D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BBD0-8741-44EA-8C41-732E62FB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AA6B-4B4F-4746-8DD0-C8D7EBCB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9834-3BA0-438F-B15E-6943FBB8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1443-6AED-4920-99F3-6E2EB180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1334-D184-423D-9437-DAEE961A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27C-E5F6-444D-A0BC-5E1D2914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017-FFB6-48E2-B7BB-342B789B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5CE-A980-41D5-96F1-2D0C0C6F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730-343C-47F4-B6C4-435A851F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3CE-450C-4C44-993B-0317168B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CEB-FCF5-498C-A3BB-9C17FF24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0F3-3184-4DE2-868A-FE74F864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ED9E-6EE3-4847-ACBC-4F131E6AE9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D9AC-1575-4692-87B1-B10B85C0FE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-Filled Day On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DOL/Ana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ok the grapes of wrath is considered among the better of Steinbecks many no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steps are necessary to replace a damaged internal modem first eject the modem second deinstall the software then replace the broken one with a new 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:scale::____: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:novel, months:season, pennies:d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-correct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Grapes of Wr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considered among the best of Steinbeck’s many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steps necessary to replace a damaged internal modem: first, eject the modem; second, de-install the software; then replace the broken modem with a new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-Due Sept. 2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following for your AR requirements: Each student must create a large "portrait" of one of the characters from the book just r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rait doesn't have to be a picture, it could be a collage of things important to the character, or it could include you dressing like your character. Be cre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rait should include a one page written piece that tells about the character. The written piece might include information about events, traits, or conflicts in the book that involve that charac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also include at least 5 quotes that show significant things about your character. See me if you need poster bo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 creative, have fun!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eativity assign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three-sentence paragraph using only the first half of the alphabet, letters A-L. (You may not use t, m, s, or any other letter that appears past L. This is where the challenge comes 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prepared to sh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liked a lake. He did feel a gale. He hiked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same thing, but only use the last  letters of the alphabet. M-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3:45:12Z</dcterms:created>
  <dc:creator>Angie</dc:creator>
  <dc:description/>
  <dc:language>en-US</dc:language>
  <cp:lastModifiedBy>Ms. McCall</cp:lastModifiedBy>
  <dcterms:modified xsi:type="dcterms:W3CDTF">2012-08-21T02:44:19Z</dcterms:modified>
  <cp:revision>8</cp:revision>
  <dc:subject/>
  <dc:title>English</dc:title>
</cp:coreProperties>
</file>